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618-FB70-4536-B210-F385D434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72E-CC64-4B0E-AAF4-55012DD3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E77-54DF-4968-87A1-CFFB3587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CBD-8B2C-43C5-9F49-DFC19EC7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2B27-89EA-4908-AB89-0E6BD813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3FF6-48CA-4589-A27F-73918FC1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388D-C880-4311-AF82-3071B170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18D6-E190-463A-9C85-D3B43A13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D654-D5E6-4431-8E87-5EAB7875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6FCF-9BA8-4E22-A5EF-13784D5A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C2AF-526A-467A-AE3C-C62DFD41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0274-2FA6-4F06-AD3F-1B4CF6BA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A520-8FBB-4A9A-A8C5-497AE88F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D3DF-C595-4DE6-93D7-044B34A9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E4E8-63F7-4FE1-9DC2-C64BCD72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7B06-BCE1-4F14-9305-23854B3C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B269-C887-47A6-AEF7-6C0185E1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68FC-BC17-4B44-8AD9-79EA8791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FC7-4A31-457E-BE92-0B523B1E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4783-0FD6-4B3A-85B1-805C779F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D9C7-049D-4137-BC18-C92AFCB9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F25E-CA9B-4576-941F-B1616CE4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A579-F5BD-400B-BFEE-25F63AED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8DFA-F76D-4D9C-82EA-BF43DD51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45E0-4970-424D-87DB-5D0EFEE21CFA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0B51-5197-4AA4-89A5-3A8FA5E66F3E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-83808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i="1" lang="en-US" sz="4800" spc="-1" strike="noStrike">
                <a:solidFill>
                  <a:srgbClr val="ffffff"/>
                </a:solidFill>
                <a:latin typeface="Comic Sans MS"/>
              </a:rPr>
              <a:t>Your game”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  Whose shoe should a Conservative touch?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173280" y="540936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22320" y="4113720"/>
            <a:ext cx="707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Winston Churchill’s shoe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6:16:5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